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840" indent="-27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22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20"/>
            <a:ext cx="9144000" cy="39888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ff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隶书"/>
                <a:ea typeface="隶书"/>
              </a:rPr>
              <a:t>第</a:t>
            </a:r>
            <a:r>
              <a:rPr b="1" lang="zh-CN" sz="2000" spc="-1" strike="noStrike">
                <a:solidFill>
                  <a:srgbClr val="009900"/>
                </a:solidFill>
                <a:latin typeface="隶书"/>
                <a:ea typeface="隶书"/>
              </a:rPr>
              <a:t>7</a:t>
            </a:r>
            <a:r>
              <a:rPr b="1" lang="zh-CN" sz="2000" spc="-1" strike="noStrike">
                <a:solidFill>
                  <a:srgbClr val="009900"/>
                </a:solidFill>
                <a:latin typeface="隶书"/>
                <a:ea typeface="隶书"/>
              </a:rPr>
              <a:t>章  </a:t>
            </a:r>
            <a:r>
              <a:rPr b="1" lang="zh-CN" sz="2000" spc="-1" strike="noStrike">
                <a:solidFill>
                  <a:srgbClr val="009900"/>
                </a:solidFill>
                <a:latin typeface="隶书"/>
                <a:ea typeface="隶书"/>
              </a:rPr>
              <a:t>Windows 98</a:t>
            </a:r>
            <a:r>
              <a:rPr b="1" lang="zh-CN" sz="2000" spc="-1" strike="noStrike">
                <a:solidFill>
                  <a:srgbClr val="009900"/>
                </a:solidFill>
                <a:latin typeface="隶书"/>
                <a:ea typeface="隶书"/>
              </a:rPr>
              <a:t>中文版的使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19.xml"/><Relationship Id="rId4" Type="http://schemas.openxmlformats.org/officeDocument/2006/relationships/slide" Target="slide34.xml"/><Relationship Id="rId5" Type="http://schemas.openxmlformats.org/officeDocument/2006/relationships/slide" Target="slide44.xml"/><Relationship Id="rId6" Type="http://schemas.openxmlformats.org/officeDocument/2006/relationships/slide" Target="slide51.xml"/><Relationship Id="rId7" Type="http://schemas.openxmlformats.org/officeDocument/2006/relationships/slide" Target="slide51.xml"/><Relationship Id="rId8" Type="http://schemas.openxmlformats.org/officeDocument/2006/relationships/slide" Target="slide51.xml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5.xml"/><Relationship Id="rId4" Type="http://schemas.openxmlformats.org/officeDocument/2006/relationships/slide" Target="slide27.xml"/><Relationship Id="rId5" Type="http://schemas.openxmlformats.org/officeDocument/2006/relationships/slide" Target="slide32.xml"/><Relationship Id="rId6" Type="http://schemas.openxmlformats.org/officeDocument/2006/relationships/slide" Target="slide33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7.xml"/><Relationship Id="rId3" Type="http://schemas.openxmlformats.org/officeDocument/2006/relationships/slide" Target="slide43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4.xml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4.xml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4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4.xml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4.xml"/><Relationship Id="rId3" Type="http://schemas.openxmlformats.org/officeDocument/2006/relationships/slide" Target="slide54.xml"/><Relationship Id="rId4" Type="http://schemas.openxmlformats.org/officeDocument/2006/relationships/slide" Target="slide60.xml"/><Relationship Id="rId5" Type="http://schemas.openxmlformats.org/officeDocument/2006/relationships/slide" Target="slide62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51.xml"/><Relationship Id="rId3" Type="http://schemas.openxmlformats.org/officeDocument/2006/relationships/slide" Target="slide51.xml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1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1.xml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1.xml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第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章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Windows 98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中文版的使用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09320" y="213372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1" action="ppaction://hlinksldjump"/>
              </a:rPr>
              <a:t>本章学习目标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2" action="ppaction://hlinksldjump"/>
              </a:rPr>
              <a:t>7.1  文件和文件夹的管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3" action="ppaction://hlinksldjump"/>
              </a:rPr>
              <a:t>7.2  磁盘驱动器的管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4" action="ppaction://hlinksldjump"/>
              </a:rPr>
              <a:t>7.3  附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5" action="ppaction://hlinksldjump"/>
              </a:rPr>
              <a:t>7.4  打印机的管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6" action="ppaction://hlinksldjump"/>
              </a:rPr>
              <a:t>7.5  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7" action="ppaction://hlinksldjump"/>
              </a:rPr>
              <a:t>Windows 98 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8" action="ppaction://hlinksldjump"/>
              </a:rPr>
              <a:t>的设置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7.1.4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管理文件和文件夹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创建一个新的文件夹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选择文件、文件夹和驱动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更改文件和文件夹的名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文件和文件夹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删除及恢复文件和文件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查看及设置文件和文件夹的属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1" action="ppaction://hlinksldjump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．创建一个新的文件夹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1956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76560" y="1828800"/>
            <a:ext cx="4681440" cy="3560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104280" y="5715000"/>
            <a:ext cx="26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3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建”的级联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2" action="ppaction://hlinksldjump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．选择文件、文件夹和驱动器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66880" y="22096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定位文件和文件夹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定文件和文件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1" action="ppaction://hlinksldjump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．更改文件和文件夹的名称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“我的电脑”和“资源管理器”窗口中选定要更名的文件或文件夹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打开“文件”菜单，单击菜单中的“重命名”命令选项；或右击选定的文件或文件夹，选择弹出的快捷菜单中的“重命名”命令选项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定的文件或文件夹图标的标识文字将被黑框框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输入所要更换的文件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1" action="ppaction://hlinksldjump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．文件和文件夹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利用菜单复制和移动文件和文件夹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使用鼠标拖放操作完成文件和文件夹的复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1" action="ppaction://hlinksldjump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．删除及恢复文件和文件夹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22096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删除一个文件或文件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一次性删除多个文件或文件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存放删除文件的“回收站”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1" action="ppaction://hlinksldjump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．查看及设置文件和文件夹的属性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统中，每一个文件和文件夹都有其自身特有的一些信息，包括文件的类型，在磁盘中所在的位置，所占空间的大小，修改时间和创建时间，以及文件在磁盘中的存在方式等，这些信息都可以统称为文件的属性。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，我们可以从文件和文件夹的属性来查看和设置它的属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2" action="ppaction://hlinksldjump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7.1.5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使用“我的公文包”同步文件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生成并配置“我的公文包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桌面空白处单击鼠标右键，在弹出的快捷菜单中单击“新建”选项，弹出一级联菜单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击菜单中的“公文包”选项，即可在桌面上建立一个“新建公文包”图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桌面上双击“新建公文包”图标，用户就可以启动“新建公文包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1" action="ppaction://hlinksldjump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“我的公文包”进行文件的同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首先将文件复制到公文包中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把公文包装入便携机中，或将它复制到一张软盘上，就能在旅行时将公文包带在身边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更改公文包里的文件，并检查公文包中的文件状态和相关文件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一次性或者是逐一更新相关文件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2" action="ppaction://hlinksldjump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7.2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磁盘驱动器的管理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7920" y="205740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1" action="ppaction://hlinksldjump"/>
              </a:rPr>
              <a:t>7.2.1  浏览磁盘内容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2" action="ppaction://hlinksldjump"/>
              </a:rPr>
              <a:t>7.2.2  格式化和复制磁盘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3" action="ppaction://hlinksldjump"/>
              </a:rPr>
              <a:t>7.2.3  管理磁盘空间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4" action="ppaction://hlinksldjump"/>
              </a:rPr>
              <a:t>7.2.4  检查和纠正磁盘错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5" action="ppaction://hlinksldjump"/>
              </a:rPr>
              <a:t>7.2.5  磁盘碎片整理程序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6" action="ppaction://hlinksldjump"/>
              </a:rPr>
              <a:t>7.2.6  清理磁盘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7" action="ppaction://hlinksldjump"/>
          </p:cNvPr>
          <p:cNvSpPr/>
          <p:nvPr/>
        </p:nvSpPr>
        <p:spPr>
          <a:xfrm>
            <a:off x="5791320" y="6095880"/>
            <a:ext cx="2819160" cy="533520"/>
          </a:xfrm>
          <a:custGeom>
            <a:avLst/>
            <a:gdLst>
              <a:gd name="textAreaLeft" fmla="*/ 704880 w 2819160"/>
              <a:gd name="textAreaRight" fmla="*/ 2114640 w 28191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8" action="ppaction://hlinksldjump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本章学习目标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文件和文件夹的管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磁盘驱动器的管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记事本、画图程序、辅助工具的使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打印机的管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indows 9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设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5791320" y="6095880"/>
            <a:ext cx="2819160" cy="533520"/>
          </a:xfrm>
          <a:custGeom>
            <a:avLst/>
            <a:gdLst>
              <a:gd name="textAreaLeft" fmla="*/ 704880 w 2819160"/>
              <a:gd name="textAreaRight" fmla="*/ 2114640 w 28191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2" action="ppaction://hlinksldjump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2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浏览磁盘内容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打开“我的电脑”窗口，双击窗口中的磁盘驱动器图标，即可打开磁盘驱动器的窗口；或在“资源管理器”窗口的左侧目录树列表中单击磁盘驱动器图标，则在窗口右侧的文件窗格中就会显示出当前磁盘中的内容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当磁盘中的内容较多时，可以利用窗口中的滚动条来滚动显示窗格中的内容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用户也可以利用窗口“查看”菜单中的各种显示方式来查看磁盘中的文件内容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2" action="ppaction://hlinksldjump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7.2.2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格式化和复制磁盘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格式化软盘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1944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733920" y="2209680"/>
            <a:ext cx="3047760" cy="2971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727080" y="5486400"/>
            <a:ext cx="34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.5  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格式化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.5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英寸软盘”对话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2" action="ppaction://hlinksldjump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复制软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8604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4695840" cy="2651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637800" y="5334120"/>
            <a:ext cx="26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6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复制磁盘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2" action="ppaction://hlinksldjump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对硬盘分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dis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一个基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S-DO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应用程序，但是它可以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S-DO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式下运行，并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dis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命令可以在用户生成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启动盘上找到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硬盘原来有分区，需要对硬盘重新分区，必须完成以下工作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删除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O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区、逻辑驱动器、扩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O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区和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O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区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生成一个新的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O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区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如需要可生成一个扩充分区和逻辑驱动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1" action="ppaction://hlinksldjump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硬盘的格式化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环境下格式化硬盘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利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启动盘格式化硬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2" action="ppaction://hlinksldjump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7.2.3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管理磁盘空间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了充分地利用磁盘空间，优化系统资源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文版提供了一个系统工具——磁盘空间管理程序，用来压缩磁盘，管理磁盘空间。打开“开始”菜单，依次选择“程序”、“附件”、“系统工具”，然后选择“磁盘空间管理”即可启动“磁盘空间管理”程序，其窗口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1" action="ppaction://hlinksldjump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56724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205520" cy="3028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758680" y="5181480"/>
            <a:ext cx="31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7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磁盘空间管理”程序窗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3" action="ppaction://hlinksldjump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7.2.4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检查和纠正磁盘错误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障系统可靠性的另一个系统工具是磁盘扫描程序，它用于发现和分析磁盘错误，并且尽量修复那些错误。磁盘扫描程序可以检查用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riveSpa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oubleSpac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工具压缩过的磁盘，但是不能检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D-RO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驱动器中的光盘、网络驱动器中的磁盘以及用老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O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命令（如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SSIG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UB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O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TERLN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创建的磁盘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1" action="ppaction://hlinksldjump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3717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4324320" cy="3500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895480" y="53341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8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磁盘扫描程序”窗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2" action="ppaction://hlinksldjump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．磁盘查错操作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首先在“扫描磁盘”窗口驱动器列表框中选取要查错的对象（单击相应的驱动器名）。如果一次想要选取多个驱动器，那么在单击时按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r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键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“扫描类型”选项组上选择查错的类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如果用户想设置对文件、文件夹查错的选项或磁盘表面扫描的选项，可单击“高级”按钮或“选项”按钮设置相应选项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如果用户希望磁盘扫描程序查错时自动修复错误，那么应选中“自动修复错误”选项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“开始”按钮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1" action="ppaction://hlinksldjump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7.1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文件和文件夹的管理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1" action="ppaction://hlinksldjump"/>
              </a:rPr>
              <a:t>7.1.1  文件的特性和类型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2" action="ppaction://hlinksldjump"/>
              </a:rPr>
              <a:t>7.1.2  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3" action="ppaction://hlinksldjump"/>
              </a:rPr>
              <a:t>Windows 98 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4" action="ppaction://hlinksldjump"/>
              </a:rPr>
              <a:t>文件的命名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5" action="ppaction://hlinksldjump"/>
              </a:rPr>
              <a:t>7.1.3  浏览文件和文件夹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6" action="ppaction://hlinksldjump"/>
              </a:rPr>
              <a:t>7.1.4  管理文件和文件夹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7" action="ppaction://hlinksldjump"/>
              </a:rPr>
              <a:t>7.1.5  使用“我的公文包”同步文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8" action="ppaction://hlinksldjump"/>
          </p:cNvPr>
          <p:cNvSpPr/>
          <p:nvPr/>
        </p:nvSpPr>
        <p:spPr>
          <a:xfrm>
            <a:off x="5791320" y="6095880"/>
            <a:ext cx="2819160" cy="533520"/>
          </a:xfrm>
          <a:custGeom>
            <a:avLst/>
            <a:gdLst>
              <a:gd name="textAreaLeft" fmla="*/ 704880 w 2819160"/>
              <a:gd name="textAreaRight" fmla="*/ 2114640 w 28191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9" action="ppaction://hlinksldjump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．表面扫描选项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“要检测的磁盘（片）区域”域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“不运行写测试”复选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“不要修复隐藏文件及系统文件里面的损坏扇区”选项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1" action="ppaction://hlinksldjump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4800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338800" cy="3593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076920" y="5181480"/>
            <a:ext cx="29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9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面扫描选项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3" action="ppaction://hlinksldjump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7.2.5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磁盘碎片整理程序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05120" y="182880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启动磁盘碎片整理程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整理碎片进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5756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09680" y="3352680"/>
            <a:ext cx="4419720" cy="2544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708960" y="3429000"/>
            <a:ext cx="140004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.10  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磁盘碎片整理程序设置”对话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2" action="ppaction://hlinksldjump"/>
          </p:cNvPr>
          <p:cNvSpPr/>
          <p:nvPr/>
        </p:nvSpPr>
        <p:spPr>
          <a:xfrm>
            <a:off x="6477120" y="617220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3" action="ppaction://hlinksldjump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7.2.6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清理磁盘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在“系统工具”级联菜单中单击“磁盘清理程序”选项，系统即会显示“选择驱动器”对话框，用户可以从中选择所要清理的驱动器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选择好所要清理的驱动器后单击“确定”按钮，系统即会显示“磁盘清除程序”对话框。该对话框显示系统正在计算磁盘上可以释放的空间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计算完成以后系统会给出一个“磁盘清理程序”对话框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在该对话框的“磁盘清理程序”选项卡中的“要删除的文件”域中包含有可以删除的四类文件：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临时文件”，“已下载的应用程序”，“回收站”和“临时文件”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选中所要删除的文件类型后单击“确定”按钮，再单击弹出的消息框中的“是”按钮即可清除这些文件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2" action="ppaction://hlinksldjump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7.3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附件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6600cc"/>
                </a:solidFill>
                <a:uFillTx/>
                <a:latin typeface="Times New Roman"/>
                <a:hlinkClick r:id="rId1" action="ppaction://hlinksldjump"/>
              </a:rPr>
              <a:t>7.3.1  记事本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6600cc"/>
                </a:solidFill>
                <a:uFillTx/>
                <a:latin typeface="Times New Roman"/>
                <a:hlinkClick r:id="rId2" action="ppaction://hlinksldjump"/>
              </a:rPr>
              <a:t>7.3.2  画图程序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6600cc"/>
                </a:solidFill>
                <a:uFillTx/>
                <a:latin typeface="Times New Roman"/>
                <a:hlinkClick r:id="rId3" action="ppaction://hlinksldjump"/>
              </a:rPr>
              <a:t>7.3.3  辅助工具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4" action="ppaction://hlinksldjump"/>
          </p:cNvPr>
          <p:cNvSpPr/>
          <p:nvPr/>
        </p:nvSpPr>
        <p:spPr>
          <a:xfrm>
            <a:off x="5791320" y="6095880"/>
            <a:ext cx="2819160" cy="533520"/>
          </a:xfrm>
          <a:custGeom>
            <a:avLst/>
            <a:gdLst>
              <a:gd name="textAreaLeft" fmla="*/ 704880 w 2819160"/>
              <a:gd name="textAreaRight" fmla="*/ 2114640 w 28191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5" action="ppaction://hlinksldjump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7.3.1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记事本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记事本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附件程序中的“记事本”是一个用于编辑纯文本文件的编辑器。“记事本”没有格式处理能力，不能处理诸如字体的大小、类型、行距和字间距等格式。“记事本”运行速度快、占用空间小，在许多场合下（文本格式不重要时）是一个很有用的实用程序。另外，以往在文本界面下编辑的大多数文档都可以用记事本来打开、显示和修改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1" action="ppaction://hlinksldjump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黑体"/>
              </a:rPr>
              <a:t>记事本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的操作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打开和保存文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编辑文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查找文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在文本文件中插入时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日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自动换行功能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2" action="ppaction://hlinksldjump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7.3.2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画图程序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“画图”简介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560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581280" y="2209680"/>
            <a:ext cx="2792520" cy="3657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926400" y="2392200"/>
            <a:ext cx="546120" cy="32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11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画图”窗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724800" cy="51339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819880" y="601992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各工具及其功能的列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904760" y="990720"/>
            <a:ext cx="6629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0200" indent="47628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画直线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0200" indent="47628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画曲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0200" indent="47628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画圆或椭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0200" indent="47628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画矩形或正方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0200" indent="47628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画多边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0200" indent="47628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键入或编排文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0200" indent="47628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意图形的绘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0200" indent="47628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填充、复制颜色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0200" indent="47628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擦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00360" y="720720"/>
            <a:ext cx="1701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绘制技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7.1.1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文件的特性和类型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文件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文件名具有唯一性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文件中可存放字母、数字、图片和声音等各种信息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文件具有可携带性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文件又具有可修改性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文件在软盘或硬盘中有其固定的位置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1" action="ppaction://hlinksldjump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904760" y="1676520"/>
            <a:ext cx="556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定制画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置画布的尺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清理画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需要画布上有更多空间时放大图片，查看细节观看“大图片”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76160" y="190512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复制、移动和保存选定区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区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移动、复制图像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0" y="16765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画图高级技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翻转和旋转对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拉伸和扭曲对象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翻转颜色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创建定制颜色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2" action="ppaction://hlinksldjump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7.3.3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辅助工具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辅助工具为身体有残疾的用户使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文版提供了方便。辅助工具由两个部分组成：“放大程序”和“辅助工具向导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2" action="ppaction://hlinksldjump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7.4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打印机的管理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1" action="ppaction://hlinksldjump"/>
              </a:rPr>
              <a:t>7.4.1  检查打印机安装状态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2" action="ppaction://hlinksldjump"/>
              </a:rPr>
              <a:t>7.4.2  使用添加打印机向导添加一个打印机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3" action="ppaction://hlinksldjump"/>
              </a:rPr>
              <a:t>7.4.3  使用字体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4" action="ppaction://hlinksldjump"/>
              </a:rPr>
              <a:t>7.4.4  使用打印机文件夹打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5" action="ppaction://hlinksldjump"/>
          </p:cNvPr>
          <p:cNvSpPr/>
          <p:nvPr/>
        </p:nvSpPr>
        <p:spPr>
          <a:xfrm>
            <a:off x="5791320" y="6095880"/>
            <a:ext cx="2819160" cy="533520"/>
          </a:xfrm>
          <a:custGeom>
            <a:avLst/>
            <a:gdLst>
              <a:gd name="textAreaLeft" fmla="*/ 704880 w 2819160"/>
              <a:gd name="textAreaRight" fmla="*/ 2114640 w 28191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6" action="ppaction://hlinksldjump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7.4.1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检查打印机安装状态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安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程序会自动配置打印机并和打印机相连。由于几乎所有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用程序都使用打印机文件夹和缺省的打印定义来打印，因此检查配置非常重要。在试图打印之前，应该检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确保打印机的设置是正确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59100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3648240" cy="3276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656520" y="50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1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打印机窗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8080" y="685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属性对话框中可以选择如下标签从而查看其设置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常规”标签包括打印机的名字，设备类型和定位以及注释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详细资料”标签显示了有关安装的打印机的详细信息。 “纸张”标签允许输入纸的大小和纸源等信息，并设置打印方向：纵向或者横向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打印质量”标签允许输入以每英寸多少点表示的分辨率（点数越多，分辨率越高），抖动（不抖动、精细、艺术线条）和亮度（从最暗到最亮）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备选项”标签允许设定打印机内存。如果不能确定打印机中的内存量，可检查打印机手册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2" action="ppaction://hlinksldjump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7.4.2 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使用添加打印机向导添加一个打印机 </a:t>
            </a: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打印机窗口中，双击添加打印机图标。此时，“添加打印机向导”对话框出现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“下一步”按钮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如果正使用网络，则选择本地打印机或者网络打印机，然后单击“下一步”按钮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从“生产商”列表框中选定一个打印机。这时向导在打印机列表框中显示一个打印机类型列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选定一个打印机类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选择“下一步”，然后根据每个向导对话框中的提示，安装新的打印机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2" action="ppaction://hlinksldjump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7.4.3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使用字体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许多打印机都可以打印多种字符或字形（称为字体）。查阅打印机手册就可知道打印机是否能打印多种字体。如果能，在打印前应检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的字体，字体可以被保存在磁盘上，也可以被保存在打印机中的字体盒里。在安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打印字体就被指定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2" action="ppaction://hlinksldjump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．文件的类型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8640" y="20574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程序文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本文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像文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媒体文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字体文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文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2" action="ppaction://hlinksldjump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7.4.4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使用打印机文件夹打印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096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检查打印队列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“开始”按钮，并选择“设置”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从“设置”菜单中，选择打印机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双击打印机图标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打印队列窗口出现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控制打印工作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重新排列打印队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暂停或恢复打印队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删除一项打印工作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2" action="ppaction://hlinksldjump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7.5  Windows 98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的设置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980720" y="20574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1" action="ppaction://hlinksldjump"/>
              </a:rPr>
              <a:t>7.5.1  设置鼠标的工作方式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2" action="ppaction://hlinksldjump"/>
              </a:rPr>
              <a:t>7.5.2  设置显示器的属性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4" action="ppaction://hlinksldjump"/>
              </a:rPr>
              <a:t>7.5.3  自定义任务栏和开始菜单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5" action="ppaction://hlinksldjump"/>
              </a:rPr>
              <a:t>7.5.4  调整日期与时间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6" action="ppaction://hlinksldjump"/>
          </p:cNvPr>
          <p:cNvSpPr/>
          <p:nvPr/>
        </p:nvSpPr>
        <p:spPr>
          <a:xfrm>
            <a:off x="5791320" y="6095880"/>
            <a:ext cx="2819160" cy="533520"/>
          </a:xfrm>
          <a:custGeom>
            <a:avLst/>
            <a:gdLst>
              <a:gd name="textAreaLeft" fmla="*/ 704880 w 2819160"/>
              <a:gd name="textAreaRight" fmla="*/ 2114640 w 28191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7" action="ppaction://hlinksldjump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7.5.1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设置鼠标的工作方式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鼠标按钮的配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设置鼠标的双击速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设置鼠标的指针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设置指针的移动速度和指针轨迹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1488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4114800" cy="40831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171960" y="5257800"/>
            <a:ext cx="24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1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标按钮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2" action="ppaction://hlinksldjump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3" action="ppaction://hlinksldjump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7.5.2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设置显示器的属性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双击“控制面板”中的“显示”图标，即可打开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的“显示属性”窗口。窗口中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选项卡：背景、屏幕保护程序、外观、效果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设置，它们分别可以用来设置显示器的背景画面、屏幕保护程序，显示器的外观、效果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项以及显示器的色彩和分辨率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41964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3745080" cy="3852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117960" y="5181480"/>
            <a:ext cx="25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15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显示属性”窗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．“背景”选项卡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“显示属性”窗口中，“背景”选项卡是用来设置桌面的背景图案的，该图案只要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档或位图文件就都可以在屏幕上表现出来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文版已经为用户提供了一些背景图片，用户也可以使用其他的图片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档来作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文版桌面的背景。在“背景”选项卡中，用户也可为桌面添加图案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．“屏幕保护程序”选项卡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设置屏幕保护程序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设置监视器的电源管理特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．自定义桌面的外观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击“显示属性”对话框中的“外观”标签，将出现“外观”选项卡，在“外观”选项卡中可以设置活动窗口、按钮、图标和消息框等的样式和颜色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文版为用户提供了一些外观设置方案，用户可在“方案”列表框中选择一种方案。此时在对话框上部的预览框中会显示出该方案的大致情况，如果用户满意则可单击“应用”按钮，如不满意则可选择其他方案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．设置桌面的显示效果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720" y="20574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设置图标的样式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设置屏幕显示效果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rId1" action="ppaction://hlinksldjump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2" action="ppaction://hlinksldjump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7.1.2  Windows 98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文件的命名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文版环境中文件名的命名协议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文件或文件夹的名字中，最多可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5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字符。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使用多间隔符的扩展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文件名中除去开头以外的任何地方都可以有空格，但不能有下列符号：？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\   * “    &lt;    &gt;     |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文版保留用户指定的名字的大小写格式，但不能利用大小写区别文件名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当用户查找和排列文件时，可以使用通配符“？”和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2" action="ppaction://hlinksldjump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7.5.3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自定义任务栏和开始菜单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．自定义任务栏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“总在最前面”复选框用来控制是否不管打开多少窗口，任务栏总是显示在最前面，不会被窗口或对话框覆盖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“自动隐藏”复选框用来控制是否使任务栏变成一条线隐藏在显示屏的底部，此时只有当鼠标移动到屏幕底部边缘后才会激活任务栏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“在“开始”菜单中显示小图标”复选框可以使“开始”菜单中的图标变得比较小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“显示时钟”复选框控制是否在任务栏上把系统时间显示出来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自定义开始菜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向“开始”菜单中添加选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删除“开始”菜单中的项目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2" action="ppaction://hlinksldjump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7.5.4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调整日期与时间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改变日期和时间的方法如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月份列表框中的向下箭头按钮，选取月份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年份输入框中的数字增减按钮，调整年份数值。也可以直接在年份输入框输入年份值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日历列表框中单击日期值。系统会以蓝色背景亮显选中的日期值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“时间”选项组中调整时间值。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1" action="ppaction://hlinksldjump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2" action="ppaction://hlinksldjump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THANK YOU VERY MUCH 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本章到此结束，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谢谢您 的光临！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638680" y="6019920"/>
            <a:ext cx="2819520" cy="53316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6660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" action="ppaction://hlinkshowjump?jump=endshow"/>
          </p:cNvPr>
          <p:cNvSpPr/>
          <p:nvPr/>
        </p:nvSpPr>
        <p:spPr>
          <a:xfrm>
            <a:off x="6705720" y="5334120"/>
            <a:ext cx="2133360" cy="53316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结  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7.1.3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浏览文件和文件夹 </a:t>
            </a: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文版中，用户可以使用多种方法来浏览和使用这些资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“我的电脑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用“资源管理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1" action="ppaction://hlinksldjump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44808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4934160" cy="3616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70240" y="525780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1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的电脑”窗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2133360" cy="533520"/>
          </a:xfrm>
          <a:custGeom>
            <a:avLst/>
            <a:gdLst>
              <a:gd name="textAreaLeft" fmla="*/ 533160 w 2133360"/>
              <a:gd name="textAreaRight" fmla="*/ 1600200 w 213336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2" action="ppaction://hlinksldjump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3"/>
            </a:gs>
            <a:gs pos="100000">
              <a:srgbClr val="ffcd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1464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129360" cy="4141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132000" y="568008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资源管理器的“浏览”窗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2" action="ppaction://hlinksldjump"/>
          </p:cNvPr>
          <p:cNvSpPr/>
          <p:nvPr/>
        </p:nvSpPr>
        <p:spPr>
          <a:xfrm>
            <a:off x="6858000" y="6172200"/>
            <a:ext cx="2133720" cy="533520"/>
          </a:xfrm>
          <a:custGeom>
            <a:avLst/>
            <a:gdLst>
              <a:gd name="textAreaLeft" fmla="*/ 533520 w 2133720"/>
              <a:gd name="textAreaRight" fmla="*/ 1600560 w 213372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  <a:hlinkClick r:id="rId3" action="ppaction://hlinksldjump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0T00:50:45Z</dcterms:created>
  <dc:creator>新人电脑</dc:creator>
  <dc:description/>
  <dc:language>en-US</dc:language>
  <cp:lastModifiedBy>新人电脑</cp:lastModifiedBy>
  <dcterms:modified xsi:type="dcterms:W3CDTF">2001-12-24T03:04:40Z</dcterms:modified>
  <cp:revision>43</cp:revision>
  <dc:subject/>
  <dc:title>第7章  Windows 98中文版的使用 </dc:title>
</cp:coreProperties>
</file>